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D7F-97F8-4661-942D-EF84325D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7AD-2C3B-46BB-B991-ABDBBA01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0F3-AA81-48DD-9204-61AA38F4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DDB-A280-4936-BCF7-A28393A5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70D-A075-4B93-8733-1EB69836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486-1436-4D85-9A16-6E40ACB6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2FE-AB4F-47C9-9109-4FD0B79F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140-EB6C-4F9A-99A4-3672CBA5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30A-F0CD-4D17-9544-C60B0996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D62-F2D9-4835-949E-2C17BC41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E35-0287-4BA0-ADE5-A6386F71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FC3-6B66-4AB6-95D7-60D4E8EB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7128-BDFD-451F-B6B7-4B2725F74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743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fting th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 the template to craft the goal as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736720"/>
            <a:ext cx="6245280" cy="509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pecific skills)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9840" y="3513240"/>
            <a:ext cx="7766280" cy="50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groups and grade levels of stud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8520" y="4238640"/>
            <a:ext cx="2435400" cy="50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rcent of stud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7240" y="4998960"/>
            <a:ext cx="4922640" cy="50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vel of 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57560" y="5667480"/>
            <a:ext cx="5770440" cy="50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ame of 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42840" y="6291360"/>
            <a:ext cx="2516400" cy="50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nth and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33560" y="2457360"/>
            <a:ext cx="1785960" cy="739800"/>
            <a:chOff x="1033560" y="2457360"/>
            <a:chExt cx="1785960" cy="739800"/>
          </a:xfrm>
        </p:grpSpPr>
        <p:sp>
          <p:nvSpPr>
            <p:cNvPr id="51" name=""/>
            <p:cNvSpPr/>
            <p:nvPr/>
          </p:nvSpPr>
          <p:spPr>
            <a:xfrm>
              <a:off x="1033560" y="2782800"/>
              <a:ext cx="528480" cy="41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1000" y="2457360"/>
              <a:ext cx="12985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mmi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455840" y="2706840"/>
              <a:ext cx="23796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6080" y="2286000"/>
            <a:ext cx="1020600" cy="849240"/>
            <a:chOff x="46080" y="2286000"/>
            <a:chExt cx="1020600" cy="849240"/>
          </a:xfrm>
        </p:grpSpPr>
        <p:sp>
          <p:nvSpPr>
            <p:cNvPr id="55" name=""/>
            <p:cNvSpPr/>
            <p:nvPr/>
          </p:nvSpPr>
          <p:spPr>
            <a:xfrm>
              <a:off x="522360" y="2782800"/>
              <a:ext cx="449280" cy="352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080" y="2286000"/>
              <a:ext cx="10206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Staff who will do the wor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732960" y="2649600"/>
              <a:ext cx="3996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04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demon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measu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558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fting th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55840" cy="11937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31920" y="1828800"/>
            <a:ext cx="8583480" cy="4581000"/>
            <a:chOff x="331920" y="1828800"/>
            <a:chExt cx="8583480" cy="4581000"/>
          </a:xfrm>
        </p:grpSpPr>
        <p:sp>
          <p:nvSpPr>
            <p:cNvPr id="68" name=""/>
            <p:cNvSpPr/>
            <p:nvPr/>
          </p:nvSpPr>
          <p:spPr>
            <a:xfrm>
              <a:off x="2389320" y="2286000"/>
              <a:ext cx="6244920" cy="50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9480" y="3062160"/>
              <a:ext cx="7765920" cy="50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27040" y="3816360"/>
              <a:ext cx="3552840" cy="509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24120" y="4502160"/>
              <a:ext cx="4923000" cy="507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03520" y="5187960"/>
              <a:ext cx="5770440" cy="509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20840" y="5821200"/>
              <a:ext cx="2516040" cy="50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395360" y="2000160"/>
              <a:ext cx="1831680" cy="807840"/>
              <a:chOff x="1395360" y="2000160"/>
              <a:chExt cx="1831680" cy="807840"/>
            </a:xfrm>
          </p:grpSpPr>
          <p:sp>
            <p:nvSpPr>
              <p:cNvPr id="75" name=""/>
              <p:cNvSpPr/>
              <p:nvPr/>
            </p:nvSpPr>
            <p:spPr>
              <a:xfrm>
                <a:off x="1395360" y="2292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il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95360" y="2292120"/>
                <a:ext cx="685800" cy="515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28520" y="2000160"/>
                <a:ext cx="129852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Commi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1863720" y="2255760"/>
                <a:ext cx="2379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84200" y="3054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1920" y="38163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 th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1920" y="45784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ll demonst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1920" y="51879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 measured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4200" y="5950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07880" y="1828800"/>
              <a:ext cx="1020600" cy="974880"/>
              <a:chOff x="407880" y="1828800"/>
              <a:chExt cx="1020600" cy="974880"/>
            </a:xfrm>
          </p:grpSpPr>
          <p:sp>
            <p:nvSpPr>
              <p:cNvPr id="85" name=""/>
              <p:cNvSpPr/>
              <p:nvPr/>
            </p:nvSpPr>
            <p:spPr>
              <a:xfrm>
                <a:off x="636480" y="2325960"/>
                <a:ext cx="609480" cy="47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07880" y="1828800"/>
                <a:ext cx="102060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Staff who will do the work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1061280" y="2063520"/>
                <a:ext cx="7308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7920" y="2297160"/>
                <a:ext cx="62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0:46:47Z</dcterms:created>
  <dc:creator>mhauser</dc:creator>
  <dc:description/>
  <dc:language>en-US</dc:language>
  <cp:lastModifiedBy>mhauser</cp:lastModifiedBy>
  <dcterms:modified xsi:type="dcterms:W3CDTF">2008-09-15T20:11:14Z</dcterms:modified>
  <cp:revision>2</cp:revision>
  <dc:subject/>
  <dc:title>Visualize the Future</dc:title>
</cp:coreProperties>
</file>